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BF1-5B7E-4792-A34E-999C1C9E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FB6-A83A-4DB6-A14C-27581074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20B-FC0F-4E7E-8032-B57C874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3C5-D406-458F-9966-5B41F50C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93E-6391-4F5E-AC46-514EC702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2DB-75A3-4A35-90DA-8C4168E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570-0BA0-4F83-BBB0-DDC9FCA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14A-62F0-4CAE-8A32-A110B986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7A3-34F1-4B01-BE23-0E91D705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A01-C81B-4D24-B753-0629D29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28B-DB8F-49C6-9DAE-FF61E66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E09-B2F5-4B26-BF95-71AF4DB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968D-2601-4302-A964-604C95BA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La espanol re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Realizados por Michaella Simon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05120" y="11430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Edwardian Script ITC"/>
              </a:rPr>
              <a:t>Ropa linda de Ashland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Edwardian Script ITC"/>
              <a:ea typeface="Edwardian Script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3200400"/>
            <a:ext cx="4191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echo por Michaella Simonelli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2333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95680"/>
            <a:ext cx="1600200" cy="1762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934320" y="3048120"/>
            <a:ext cx="19904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9880" y="4572000"/>
            <a:ext cx="1914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917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1600200" cy="34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76720" y="4114800"/>
            <a:ext cx="1828800" cy="2571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81080" y="1676520"/>
            <a:ext cx="2530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914400"/>
            <a:ext cx="2210040" cy="256284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trata de Dalila. Ella lleva un vestido de color naranja y un collar de oro. Dalila tiene una cartera orge para que coincida con su vestido. Ella se ve muy boni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04760" y="3429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2362320" cy="20142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Se trata de Belinda.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Belinda lleva una falda de volantes de color azul con una blusa blanca. Ella también lleva un reloj de color 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02884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33520"/>
            <a:ext cx="1371600" cy="33858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e trata de Jade. </a:t>
            </a: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Jade es rubia. Ella está usando un negro de tirantes vaqueros ajustados y una chaqueta de peluch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248520" y="25142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807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8288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3543480"/>
            <a:ext cx="2286000" cy="33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248520" y="3429000"/>
            <a:ext cx="237168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914400"/>
            <a:ext cx="259092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Esto es Ramira. Ella está usando un pijama azul. Tienen penquins en él. No lleva zap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429000"/>
            <a:ext cx="2057400" cy="3111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9900"/>
                </a:solidFill>
                <a:latin typeface="Arial"/>
              </a:rPr>
              <a:t>Se trata de Albertina. Ella está usando un dres corto y bonito con strpes negro en la parte superior y volantes en la parte inferior. Ella también lleva un lindo sombr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867280" y="52574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95280"/>
            <a:ext cx="2514600" cy="146556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ff"/>
                </a:solidFill>
                <a:latin typeface="Arial"/>
              </a:rPr>
              <a:t>La rubia está por debajo de Lavina. Ella tiene una camisa roja, pantalón corto con ju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095880" y="14475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52280" y="-685800"/>
            <a:ext cx="9144000" cy="769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12580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152280" y="228600"/>
            <a:ext cx="228744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05320" y="3962520"/>
            <a:ext cx="228600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20040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 trata es Alanzo. Alanzo es lleva un gris chaqueta y blanco lanzo y cam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3716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267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33"/>
                </a:solidFill>
                <a:latin typeface="Arial"/>
              </a:rPr>
              <a:t>Alejandro es lleva un blanco pantalones y negro camisa. El es tambien gorra de az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9132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Se trata es Carlos. Es lleva un negro chaqeta y negro camisa. Carlos es muy gua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762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357336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a chica rubia es Carmina. Ella es lleva un </a:t>
            </a: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púrpura leopardo vestido. Carmina es tambien lleva purpura flores y puls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2743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81680" y="32688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La chica morena es Adalia. Adalia es lleva un elegante y rojo vestido y gris zap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148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001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319248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 trata es Sofia. Ella es lleva verde </a:t>
            </a: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traje de baño. Sofia es tambien lleva blanco puls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86600" y="236232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" y="4572000"/>
            <a:ext cx="2381400" cy="19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92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cc"/>
                </a:solidFill>
                <a:latin typeface="Arial"/>
              </a:rPr>
              <a:t>Este es el bebé de María. Ella lleva un lazo blanco y vestido blanco que los partidos! Ella es tan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096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0402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Jackie se lleva un lindo sombrero blanco y rosa con una flor en ella. Ella también lleva un mono de color rosa y una camisa blanc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629400" y="4267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14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ff"/>
                </a:solidFill>
                <a:latin typeface="Arial"/>
              </a:rPr>
              <a:t>Este lindo bebé es maya. A ella le encanta vestir de rosa y marrón. Ella lleva un arco con su atuendo. Maya también se pongan en venta los zapatos</a:t>
            </a:r>
            <a:r>
              <a:rPr b="0" lang="es-ES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89540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1524240" cy="2171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75420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38280" y="35812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gi"/>
              </a:rPr>
              <a:t>Peace Out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gi"/>
              <a:ea typeface="Gig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2280" y="55627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ush Script MT"/>
              </a:rPr>
              <a:t>Thank you for watching/ reading La espanol Revista! the best magazine in the world!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8:11Z</dcterms:created>
  <dc:creator>simonellimic</dc:creator>
  <dc:description/>
  <dc:language>en-US</dc:language>
  <cp:lastModifiedBy>simonellimic</cp:lastModifiedBy>
  <dcterms:modified xsi:type="dcterms:W3CDTF">2011-12-16T13:43:36Z</dcterms:modified>
  <cp:revision>13</cp:revision>
  <dc:subject/>
  <dc:title>La espanol revista</dc:title>
</cp:coreProperties>
</file>